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5192-1E85-451C-AC09-45466B3CE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5FDD-CE93-4381-92EC-D81E6639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F462-46DB-420F-BE61-5AB82EEB5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46C9-A10E-4BCF-A186-B48906A94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C821-D84F-48AB-9360-6310421B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0C16-D23D-4288-83E8-38CC09FE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3BFF-36F2-466A-BC58-20A45982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C81B-4FC6-4BBC-B6E9-47F6017A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727E-0C55-4AEC-95F6-A216F792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4340-6B03-4A81-A47A-EA8DE0E7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F7A9-40FE-4A4E-BA8D-E5F147BB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0D91-8B52-4CA5-A3BC-D47E8D01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580B-1B58-4CF8-BCEB-DA1716930909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tty drivers loaded 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vi /proc/tty/dr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7391520" cy="2922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49200" y="26272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31720" y="26668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View serial 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vi /proc/tty/driver/s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0283</cp:lastModifiedBy>
  <dcterms:modified xsi:type="dcterms:W3CDTF">2014-08-01T02:55:2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